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7AC-60B5-4EFC-9700-66A518CF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75B-01E2-41D5-9FB5-A6732F0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7AE-B298-4ABC-824D-83A301C6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16B-40B9-432E-B486-2F01CB05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91E-A8DA-4B66-85E7-12C7E8E9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5ED-1960-4DC8-BB04-F3AE7C1F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765-D728-4C5F-90D5-2B7720D3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591-E228-47F2-8F13-EE50C4F8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F97-8901-479B-AD70-2AD48F77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805-0D59-44A4-AD63-A1EDE4B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E8C-4251-4B88-9D7A-52C52B2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6EC-D9AB-4821-89F7-98D00FE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28E-1766-45BB-AE64-4C2DB4712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tacoast1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11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روحُ القدسُ حلَّ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يومَ </a:t>
            </a:r>
            <a:r>
              <a:rPr b="1" lang="en-US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في الرُسْل الأطهار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روحُ الحقِّ   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تجلّى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  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ي ألسنةٍ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من نـا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ntecost002" descr=""/>
          <p:cNvPicPr/>
          <p:nvPr/>
        </p:nvPicPr>
        <p:blipFill>
          <a:blip r:embed="rId1"/>
          <a:stretch/>
        </p:blipFill>
        <p:spPr>
          <a:xfrm>
            <a:off x="3809880" y="0"/>
            <a:ext cx="559620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73392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اضَ الروحُ البهيُّ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اليومَ في الرُسل الأطهارْ       قـد رآهُ النـبـيّ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ألســنةٍ من نـارْ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o01" descr=""/>
          <p:cNvPicPr/>
          <p:nvPr/>
        </p:nvPicPr>
        <p:blipFill>
          <a:blip r:embed="rId1"/>
          <a:stretch/>
        </p:blipFill>
        <p:spPr>
          <a:xfrm>
            <a:off x="360504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12408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، يا مَن تَقَبّ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ِدْمـاً خِدْمـَةَ الأبـ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نونُ ، تقبَّل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سـتجِبـنا كالأبـر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15:25Z</dcterms:created>
  <dc:creator>SUZANNE.MD</dc:creator>
  <dc:description/>
  <dc:language>en-US</dc:language>
  <cp:lastModifiedBy>SUZANNE.MD</cp:lastModifiedBy>
  <dcterms:modified xsi:type="dcterms:W3CDTF">2003-05-21T09:47:14Z</dcterms:modified>
  <cp:revision>1</cp:revision>
  <dc:subject/>
  <dc:title>PowerPoint Presentation</dc:title>
</cp:coreProperties>
</file>